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8AA9-444B-4341-B1DA-FF924C39E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C546-0334-4CBA-9C03-ACF9F53A917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711-D3B4-4156-88CB-55ED5E3B729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8E57-ACCB-4E41-B9B7-D5BB0DD7AE3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E69-724A-4240-B4BF-CCEC9CC755B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29FD-2275-42E6-BCE3-DA8948E1E5D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635F-4A40-472D-B283-D8A9E22142E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0A9-DCB1-440A-A23D-B1026B2CF1F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F374-C00A-4261-8782-AEB0D7AFEBE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247E-A4B3-4401-84DF-C7A03A73E05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BFC-4118-4881-B3F4-CFE97DC2F2E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2B5D-35FB-4CE9-8C9A-3336018F061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D6B-C11C-443B-B590-DEA00E6BC49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7C36-BEBE-4444-928A-4954A7342A9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A511-6A21-4C02-8310-0054EE20CE5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3156-98DA-45C8-8679-90A3A114281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EA71-6C81-4D88-AF1D-5DA98D8D8F0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27D-78CD-4C5E-A859-6E1B33FDB59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654-8A8B-4928-A7F8-A15FC826A8D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A25F-B31C-4AFF-9CDE-9D0E5C884F8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59E-291E-4F10-AA9B-33D1DD12B3F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71D4-3269-47ED-9DCE-29B807B5CE0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61BE-8B5F-4DDA-97BA-906EC51ABBE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739-52E8-489A-A94D-5357389BF51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AEB1-F8E9-4CD2-BDC9-669A9548027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2FB7-07F4-44FD-9B81-A5D4FC55486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DEA-B66D-4D4E-ACC4-EF9EEBD44C4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475-85B7-4577-B4DA-F85239AA416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E78-93E7-44B6-84E2-D3495191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B8A-82FA-4B87-B84E-39F6DEA3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90A-3195-4DA8-87F9-B62487A8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D33-90BA-40EA-B794-31EEC329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BB43-E75B-411A-BAA7-A1BD1885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81AB-EAC3-4779-B5F8-96C96E0D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9BBD-7F3A-4CC0-A63E-E913055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464E-5EF4-41E3-B8FF-04223CC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EF6-C373-438C-8DB4-ABFA740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91C-086A-4FF3-A581-A5D21C6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D34-2F2A-4B9D-AD54-CF47DCE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4FD-0E7C-4AE4-9B98-A479730A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936-00D3-4945-923B-7422A32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824-5A64-445C-8D92-C9FC535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766A-9A0E-460B-AC47-645C372B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62B7-F831-4EF6-B7D2-64D7BA40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976E-5578-4F07-837C-D2E711D1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F9D-E4B3-4BF5-B5EB-9C02261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E01-0C98-40DE-BFEE-4ADAD096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726-6AA6-485D-8180-6F17C76A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F0E-7829-4590-8DBB-2849609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E8B-3324-4CBF-9180-D160B62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B3D-D5FE-4504-BB38-126E632B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F95-742C-4571-A241-CC5DEBE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88ED-7FD3-4117-92AE-8668A65AF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1FD-DD91-4FF1-B3A3-592B69E67F0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CA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CA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71640" y="981000"/>
            <a:ext cx="723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81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Starting as early as Junior High!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_(fe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34544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Daly Dominguez</cp:lastModifiedBy>
  <cp:lastPrinted>2008-06-19T00:55:33Z</cp:lastPrinted>
  <dcterms:modified xsi:type="dcterms:W3CDTF">2016-01-19T20:03:15Z</dcterms:modified>
  <cp:revision>11</cp:revision>
  <dc:subject/>
  <dc:title>ALCOHOL</dc:title>
</cp:coreProperties>
</file>